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77C76-7324-4DC2-91E6-91BC5F1B9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174F0-3C22-496D-9A99-0C5958F2B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C50D5-7EFF-44AB-8554-15875D50B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B0FF0-F2A3-489D-8BA9-44FEA2BEE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57F59-7796-4CBE-9B90-A1EE22B17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8DC37-DBA0-4625-85D4-888808718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2B6D4-7B84-4BB0-82DF-78A16C962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CE621-EE64-417B-9B74-EC5778234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77DA5-C4EA-4883-8D1C-3F8FC8DAF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74FD8-7613-495D-A4DC-0AF572B4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3EBAD-C2A2-49AF-ADE6-01386A4E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56331-CE72-4248-A332-9417DD4FC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21C8F-8080-4D97-BC79-46CD2B95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9928B-BD94-4169-A330-CF26C760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FB76E-F57E-4303-9A46-CE7762BB7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54B2D-0C47-4C42-98F8-F0D108B20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867C2-89AC-4785-B6B7-4217E7CB2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85884-4A08-4860-83A4-A024DFC3E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A0997-E0B1-4987-AF94-377AE4542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E3D98-B27F-46F4-8A7B-C9D9FDF0B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5CC66-5C0B-4849-A9C1-7F863EE3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31588-FAAB-4151-A383-092850B7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F0BD5-6860-4867-962E-72418CBF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E66AF-AD5B-4F4A-AD23-4B68E21E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67069-8284-4BE0-ABD7-C0EB73FF72A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537c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9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5656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537c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9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5656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45264-603A-4C62-BC42-CA60B54FD86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fdfe9"/>
                </a:solidFill>
                <a:latin typeface="Garamond"/>
              </a:rPr>
              <a:t>Introduction to Genetics</a:t>
            </a:r>
            <a:endParaRPr b="1" lang="en-US" sz="6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apter 11 - Biolog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 Use the last 2 digits the same way to find the mother’s genotyp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. Construct a Punnett square for the cross of these parents. Then, using the Punnett square, determine the probability that their child will have dimpl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. Determine the class average of the percent of children with dimpl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Homozygous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– organisms that have 2 identical alleles for a particular trait (ie. TT or tt) – true-breed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Heterozygou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– organisms that have 2 different alleles for the same trait (ie. Tt) – hybri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henotyp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– physical characteristic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ngs you can se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Genotyp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– genetic makeu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ngs you cannot see – ie. genes (made of DNA) on chromosom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ndel performed an experiment to see if seed shape affects seed color – crossed plants and recorded the two trai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e did not effect the othe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(independent assortment)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– genes for different traits  can segregate independently during formation of gamet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Summary of Mendel’s Principles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heritance of biological characteristics is determined by gen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en two of more forms of the gene for a single trait exist, some forms may be dominant and others recessiv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most sexually reproducing organisms, each adult has two copies of each gene – one from each parent. These are segregated from each other when gametes are form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eles for different genes usually segregate independently of one anoth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ses in which one allele is not completely dominant over another are calle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complete dominanc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(heterozygous phenotype is between the two homozygous phenotyp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dominanc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– both alleles contribute to the phenotype. (ie. in chickens, the alleles for black feathers is codominant with the allele for white feathe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Dominant &amp; Recessive Alleles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0" y="533520"/>
            <a:ext cx="3733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omplete dominance - neither allele is dominant,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d x white = pin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dominance - both are expressed in some way,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601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d x white = white/red spot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809880" y="1219320"/>
            <a:ext cx="5334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ny genes have more than two alleles, known 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ultiple allel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es not mean that an individual can have more than two alle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ans that more than two possible alleles exist in a population – ie. rabbit coat col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its controlled by two or more genes are said to b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olygenic trait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– “having many genes.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ften show a wide range of phenotyp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e. wide range of skin color in humans – more than 4 different genes control this trai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ndel’s principles of genetics requires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ach organism must inherit a single copy of every gene from each “parent”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en an organism produces its own gametes, those 2 sets of genes must be separated so that each gamete contains just one set of gen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e. Body cell in an adult fruit fly has 8 chromosomes (4 from male parent, and 4 from female parent) – these two sets of chromosomes ar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homologou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hromosomal Inheritance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cell that contains both sets of homologous chromosomes is said to b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ploid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– 2 se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presented by the symbol 2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e. For the fruit fly the diploid number is 8 or 2N=8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ploid cells contain two complete sets of chromosomes and two complete sets of gen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ngle set of chromosomes – single set of genes ar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aploi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– 1 set or N=4 for a fruit f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Phases of Meiosis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eiosi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– process of reduction division in which the number of chromosomes per cell is cut in half through the separation of homologous chromosomes in a diploid cel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ually involves 2 distinct divisions known as meiosis I and meiosis I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Gregor Mendel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822-1884 - The father of genetic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ndel discovered the basic principles of heredity by breeding garden peas in carefully planned experiment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ue-breeding peas – self-pollina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nted to stop self pollination he cut away the pollen-bearing male parts and dusted pollen from another plant onto the flower – cross-pollin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Meiosis I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fore meiosis I, each chromosome is replicated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ells start to divide – 4 chromosomes line up in the middle of the cell and 2 chromatids that make up each chromosome separ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ophase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– each chromosome pairs with its corresponding homologous chromosome to form a structure called 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etra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 chromatids in a tetra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s tetrads are formed, they exchange portions of their chromatids in a process called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crossing-ov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Meiosis I cont…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ossing-over, results in the exchange of alleles between homologous chromosomes and produces new combos of alle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mologous chromosomes separate, and two new cells are form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E PAGE 276 FIG. 11-15 (MEIOSI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Meiosis II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 cells produced by meiosis I now enter a second meiotic divi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ach of the cell’s chromosomes has 2 chromati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taphase II -  chromosomes line up in the center of each cel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aphase II – paired chromatids separa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See Page 278 Fig. 11-17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iosis produces four genetically different haploid ce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males, meiosis results in four equal-sized gametes called sper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females, only one large egg cell results from meiosis (the other 3 cells are polar bodies and are not involved in reproduction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Mitosis vs. Meiosis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tosis results in the production of two genetically identical diploid ce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lows an organism’s body to grow and replace ce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asexual reproduction, a new organism is produced by mitosis of the cell or cells of the parent organis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iosis produces four genetically different haploid ce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gins with a diploid cell but produces four haploid (N) ce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s how sexually reproducing organisms produce game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Gene Linkage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omas Hunt Morgan researched fruit flies which led to the principle of linka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ach fruit fly has four pairs of chromosomes – each chromosome is a group of gen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t is the chromosomes that assort independently, not the gen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f two genes are found on the same chromosome they are not linked forever  - crossing-over during meiosis sometimes separates gen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Mendel’s 7 Traits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rai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– specific characteristic, such as seed color or plant height – makes one different from the oth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ndel crossed plants with each of the 7 traits and studied their offspring (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hybrid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 (parental) – original pair of pla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(first filial) – offspr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iliu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ili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re Latin for “son” and “daughter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Mendel’s 7 Traits cont.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 first concluded that biological inheritance is determined by factors that are passed from one generation to the nex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actors that determine traits are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gen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fferent forms of a gene are called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lle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is second conclusion: the principle of dominance (some alleles are dominant &amp; others are recessiv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Mendel’s 7 Traits cont.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d the recessive alleles disappear, or were they still present in the 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lant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7 kinds of 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to produce an 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rough self-pollin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cessive alleles disappeared in 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nd reappeared in F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eles in 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separated from each other during the formation of sex cells (aka gametes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en similar crosses were repeated, similar results were obtain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e. Crossed 2 plants that were hybrid for stem height 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T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, about ¾ were tall and ¼ were shor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obability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– likelihood that a particular event will occu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is can be used to predict the outcomes of genetic cross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Punnett Square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art that shows all the possible combinations of alleles that can result from a genetic cro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d to show all the possible outcomes of a genetic cross and to determine the probability of a particular outco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724280" y="2133720"/>
            <a:ext cx="4038840" cy="3189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638680" y="17524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934320" y="17524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48320" y="29718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419112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010280" y="2819520"/>
            <a:ext cx="60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715000" y="4114800"/>
            <a:ext cx="60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010280" y="41148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28195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oin Toss Lab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lease take out your handou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 will use the remainder of the period to work on and complete this lab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How are dimples inherited?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ge 268 in Biology Text Boo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. Write the last 4 digits of your telephone number. These 4 random digits represent the alleles of a gene that determines whether a person will have dimples.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dd = allele for the dominant trait of dimples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 = allele for the recessive trait of no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mple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. First 2 digits represent a certain father’s genotype. Symbols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d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write his genotyp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5T23:27:32Z</dcterms:created>
  <dc:creator>Justin</dc:creator>
  <dc:description/>
  <dc:language>en-US</dc:language>
  <cp:lastModifiedBy>Justin</cp:lastModifiedBy>
  <dcterms:modified xsi:type="dcterms:W3CDTF">2008-04-22T23:38:24Z</dcterms:modified>
  <cp:revision>23</cp:revision>
  <dc:subject/>
  <dc:title>Introduction to Genetics</dc:title>
</cp:coreProperties>
</file>